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6C9C1-3B27-4F66-BD4E-450C0D3ED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D0789-EC6E-4614-B432-54476329F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5E26C-DAA7-41B8-BD38-77D6DF992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83A68-9AE7-45D4-88BE-259E90944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54364-DF08-4682-947B-80BFB9C7B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76A3D-274D-40DA-BFA1-8126E5544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74E02-EDDF-4899-A69E-73206D9FB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741C0-2578-4661-92BD-EDDE621D8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6D567-9BDF-408D-BADA-47CCABE2B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2847B-8349-47D4-956F-EC998C9AD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68436-D266-4AF3-945F-C5DB7C415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381F1-A638-4FF2-82DC-0D69C92E7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66899-3A38-44E6-B526-D4E41ADB77DD}"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28640"/>
            <a:ext cx="7772400" cy="288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Tectonic Plate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lates</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arth's crust is made up of seven principal tectonic plates and numerous other smaller plat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lates are sections of the crust that </a:t>
            </a:r>
            <a:r>
              <a:rPr b="1" lang="en-US" sz="3200" spc="-1" strike="noStrike">
                <a:solidFill>
                  <a:srgbClr val="000000"/>
                </a:solidFill>
                <a:latin typeface="Calibri"/>
              </a:rPr>
              <a:t>"float"</a:t>
            </a:r>
            <a:r>
              <a:rPr b="0" lang="en-US" sz="3200" spc="-1" strike="noStrike">
                <a:solidFill>
                  <a:srgbClr val="000000"/>
                </a:solidFill>
                <a:latin typeface="Calibri"/>
              </a:rPr>
              <a:t> on the mantle, which is made up of molten rock.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the plate's meet, huge forces mean that they can form features such as volcanoes, fold mountains, deep-sea trenches and earthquak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lates</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main types of tectonic plate. Oceanic crust is often only about 5km thick, but is very dens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inental crust is considerably thicker, often being approximately 30km deep, but is less den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late Boundaries</a:t>
            </a:r>
            <a:endParaRPr b="0" lang="en-US" sz="4400" spc="-1" strike="noStrike">
              <a:solidFill>
                <a:srgbClr val="000000"/>
              </a:solidFill>
              <a:latin typeface="Calibri"/>
            </a:endParaRPr>
          </a:p>
        </p:txBody>
      </p:sp>
      <p:pic>
        <p:nvPicPr>
          <p:cNvPr id="47" name="Picture 2" descr="http://cgz.e2bn.net/e2bn/leas/c99/schools/cgz/accounts/staff/rchambers/GeoBytes%20GCSE%20Blog%20Resources/Images/Plate%20Tectonics/Plate%20Tectonics/Plate%20Boundaries.jpg"/>
          <p:cNvPicPr/>
          <p:nvPr/>
        </p:nvPicPr>
        <p:blipFill>
          <a:blip r:embed="rId1"/>
          <a:stretch/>
        </p:blipFill>
        <p:spPr>
          <a:xfrm>
            <a:off x="819000" y="1197000"/>
            <a:ext cx="7489800" cy="557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onvection Currents</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arth's Tectonic Plates all move very slowly on the mantle, meeting along the four main boundaries that can be found in the next s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lates move due to </a:t>
            </a:r>
            <a:r>
              <a:rPr b="1" lang="en-US" sz="3200" spc="-1" strike="noStrike">
                <a:solidFill>
                  <a:srgbClr val="000000"/>
                </a:solidFill>
                <a:latin typeface="Calibri"/>
              </a:rPr>
              <a:t>convection currents</a:t>
            </a:r>
            <a:r>
              <a:rPr b="0" lang="en-US" sz="3200" spc="-1" strike="noStrike">
                <a:solidFill>
                  <a:srgbClr val="000000"/>
                </a:solidFill>
                <a:latin typeface="Calibri"/>
              </a:rPr>
              <a:t> in the mantl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are hot currents of molten rock that slowly move within the mantle and cause the plates above them to move, usually by as little as one or two centimetres each 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04:11:22Z</dcterms:created>
  <dc:creator>Dell_02</dc:creator>
  <dc:description/>
  <dc:language>en-US</dc:language>
  <cp:lastModifiedBy>Dell_02</cp:lastModifiedBy>
  <dcterms:modified xsi:type="dcterms:W3CDTF">2011-01-26T04:19:24Z</dcterms:modified>
  <cp:revision>1</cp:revision>
  <dc:subject/>
  <dc:title>Tectonic Plates</dc:title>
</cp:coreProperties>
</file>